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0ADE-0C66-4DFE-ACFE-8175842B1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1AA3-E72D-4873-8EA0-208510B0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A44A-A999-4778-B0AB-306BC5F3B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A787-F0FA-470B-9B22-24EDFE92A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BFDB5-593E-4A61-98DA-C7465C1E5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6555-6370-4B0B-AE6A-F2319579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D6CDD-9A93-446D-B26E-82AE1E51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11A6C-634F-4CFE-952E-FB9BA9BA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FCFE-6505-4356-AE87-B3E5B7A8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C732-7989-49E3-9F55-463B0735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BB683-5F8A-40D1-BEE6-E0D17394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DECA-FBC8-4B59-9D69-497E1288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6868-5CF9-4FF1-B403-34BABA53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F143D-B0C0-4B86-97DB-CBA509D7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738D-381C-4830-9450-74F6E8F9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C16A8-2D82-4C47-9951-C2D174016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CD78F-AA68-46F0-AFF0-D9D051374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29E6-EFAF-4291-9B9F-587BCDB2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9768-9726-4E63-8284-88B977B2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40C6-8ECF-44D2-82B5-DE3FAFBE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9613-46D7-4D82-8182-6D4839A0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F4B5-1138-4D75-9C72-E5ADE39F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59F8-AE5D-4256-829A-4F943317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24D1-24CD-4F05-A152-9127D189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7C5D-A5BF-4100-98F0-506C1333FCD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D3B6-D651-4605-B27F-38E401B12E2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6.xml"/><Relationship Id="rId3" Type="http://schemas.openxmlformats.org/officeDocument/2006/relationships/slide" Target="slide20.xml"/><Relationship Id="rId4" Type="http://schemas.openxmlformats.org/officeDocument/2006/relationships/slide" Target="slide18.xml"/><Relationship Id="rId5" Type="http://schemas.openxmlformats.org/officeDocument/2006/relationships/slide" Target="slide17.xml"/><Relationship Id="rId6" Type="http://schemas.openxmlformats.org/officeDocument/2006/relationships/slide" Target="slide19.xml"/><Relationship Id="rId7" Type="http://schemas.openxmlformats.org/officeDocument/2006/relationships/slide" Target="slide21.xm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22.xml"/><Relationship Id="rId4" Type="http://schemas.openxmlformats.org/officeDocument/2006/relationships/slide" Target="slide15.xml"/><Relationship Id="rId5" Type="http://schemas.openxmlformats.org/officeDocument/2006/relationships/slide" Target="slide39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slide" Target="slide23.xml"/><Relationship Id="rId7" Type="http://schemas.openxmlformats.org/officeDocument/2006/relationships/slide" Target="slide35.xml"/><Relationship Id="rId8" Type="http://schemas.openxmlformats.org/officeDocument/2006/relationships/slide" Target="slide27.xml"/><Relationship Id="rId9" Type="http://schemas.openxmlformats.org/officeDocument/2006/relationships/slide" Target="slide24.xml"/><Relationship Id="rId10" Type="http://schemas.openxmlformats.org/officeDocument/2006/relationships/slide" Target="slide36.xml"/><Relationship Id="rId11" Type="http://schemas.openxmlformats.org/officeDocument/2006/relationships/slide" Target="slide28.xml"/><Relationship Id="rId12" Type="http://schemas.openxmlformats.org/officeDocument/2006/relationships/slide" Target="slide25.xml"/><Relationship Id="rId13" Type="http://schemas.openxmlformats.org/officeDocument/2006/relationships/slide" Target="slide37.xml"/><Relationship Id="rId14" Type="http://schemas.openxmlformats.org/officeDocument/2006/relationships/slide" Target="slide29.xml"/><Relationship Id="rId15" Type="http://schemas.openxmlformats.org/officeDocument/2006/relationships/slide" Target="slide26.xml"/><Relationship Id="rId16" Type="http://schemas.openxmlformats.org/officeDocument/2006/relationships/slide" Target="slide38.xml"/><Relationship Id="rId17" Type="http://schemas.openxmlformats.org/officeDocument/2006/relationships/slide" Target="slide30.xml"/><Relationship Id="rId1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990720" y="380880"/>
            <a:ext cx="716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Лидер XXI 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29000" y="2362320"/>
            <a:ext cx="52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С тех пор, как существует мирозданье,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Такого нет, кто б ни нуждался в знанье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Какой мы не возьмем язык и век,-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Всегда стремился к знанью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2652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.  Самый легкий г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од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исл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з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182880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9.  Что общего между ракетой и кальмар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охожи внеш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вижутся, используя реактивный принцип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обоих словах есть сочетание букв «рак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828800"/>
            <a:ext cx="769608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0. Найдите лишнее слово в выражении: « Сумма двух острых углов в прямоугольном треугольнике равна 90 градус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стрых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вух;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ямоугольно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198108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1. Драйвер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еревод понятия водитель автомобиля с английского язы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ереводчик программы на язык, “понятный” компьютер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ограмма для обслуживания периферийного устройств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981080"/>
            <a:ext cx="7696440" cy="36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2.  Реакция взаимодействия простых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заме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оед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б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7620120" y="624852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10800"/>
                </a:moveTo>
                <a:lnTo>
                  <a:pt x="33994" y="3794"/>
                </a:lnTo>
                <a:lnTo>
                  <a:pt x="3399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04920" y="380880"/>
            <a:ext cx="8305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редметный калейдоско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609480" y="25909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609480" y="388620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609480" y="51055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5" action="ppaction://hlinksldjump"/>
          </p:cNvPr>
          <p:cNvSpPr/>
          <p:nvPr/>
        </p:nvSpPr>
        <p:spPr>
          <a:xfrm>
            <a:off x="5181480" y="25909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6" action="ppaction://hlinksldjump"/>
          </p:cNvPr>
          <p:cNvSpPr/>
          <p:nvPr/>
        </p:nvSpPr>
        <p:spPr>
          <a:xfrm>
            <a:off x="5257800" y="388620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7" action="ppaction://hlinksldjump"/>
          </p:cNvPr>
          <p:cNvSpPr/>
          <p:nvPr/>
        </p:nvSpPr>
        <p:spPr>
          <a:xfrm>
            <a:off x="5257800" y="51055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2666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лге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3962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Физ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Хи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26668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Геоме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39625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Информа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51814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Т и системы с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6324480"/>
            <a:ext cx="1371600" cy="38124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7658" h="21600">
                <a:moveTo>
                  <a:pt x="0" y="0"/>
                </a:moveTo>
                <a:lnTo>
                  <a:pt x="77658" y="0"/>
                </a:lnTo>
                <a:lnTo>
                  <a:pt x="77658" y="21600"/>
                </a:lnTo>
                <a:lnTo>
                  <a:pt x="0" y="21600"/>
                </a:lnTo>
                <a:close/>
              </a:path>
              <a:path fill="lightenLess" w="77658" h="21600">
                <a:moveTo>
                  <a:pt x="0" y="0"/>
                </a:moveTo>
                <a:lnTo>
                  <a:pt x="77658" y="0"/>
                </a:lnTo>
                <a:lnTo>
                  <a:pt x="76258" y="1400"/>
                </a:lnTo>
                <a:lnTo>
                  <a:pt x="1400" y="1400"/>
                </a:lnTo>
                <a:close/>
              </a:path>
              <a:path fill="darken" w="77658" h="21600">
                <a:moveTo>
                  <a:pt x="77658" y="0"/>
                </a:moveTo>
                <a:lnTo>
                  <a:pt x="77658" y="21600"/>
                </a:lnTo>
                <a:lnTo>
                  <a:pt x="76258" y="20200"/>
                </a:lnTo>
                <a:lnTo>
                  <a:pt x="76258" y="1400"/>
                </a:lnTo>
                <a:close/>
              </a:path>
              <a:path fill="darkenLess" w="77658" h="21600">
                <a:moveTo>
                  <a:pt x="77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58" y="20200"/>
                </a:lnTo>
                <a:close/>
              </a:path>
              <a:path fill="lighten" w="77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658" h="21600">
                <a:moveTo>
                  <a:pt x="31823" y="10800"/>
                </a:moveTo>
                <a:lnTo>
                  <a:pt x="45836" y="3794"/>
                </a:lnTo>
                <a:lnTo>
                  <a:pt x="4583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Алгеб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752480"/>
            <a:ext cx="8076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График прямой пропорциона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Плата за кре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( а+в+с )2  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Сколько получится десятков, если два десятка умножить на два десят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Какое натуральное число не является ни простым , ни состав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В какой четверти находится угол в 371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. Как называется равенство двух частны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. Как изменится дробь, если числитель ее увеличить на знаменате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9. Половина – треть числа. Какое это числ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. Синус какого угла равен 1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7543800" y="62485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04" h="21600">
                <a:moveTo>
                  <a:pt x="27545" y="10800"/>
                </a:moveTo>
                <a:lnTo>
                  <a:pt x="41558" y="3794"/>
                </a:lnTo>
                <a:lnTo>
                  <a:pt x="4155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905120" y="457200"/>
            <a:ext cx="5257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Геомет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752480"/>
            <a:ext cx="8305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Высоты данного треугольника не пересекаются.  Какой это треугольн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Форма футбольного мяч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Луч, который делит угол попола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Свойство, требующее доказательст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Какой современный термин соответствует названию фигуры «косое поле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Какое наибольшее число внешних тупых углов возможно в треугольни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. Какой термин происходит от сочетания двух греческих слов «через» и «угол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. Можно ли вписать окружность в прямоугольн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. Этот математический термин в переводе с греческого означает «струна». Что э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. На какую сторону падает меньшая высота треугольни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8001000" y="6324480"/>
            <a:ext cx="914400" cy="38124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1779" h="21600">
                <a:moveTo>
                  <a:pt x="0" y="0"/>
                </a:moveTo>
                <a:lnTo>
                  <a:pt x="51779" y="0"/>
                </a:lnTo>
                <a:lnTo>
                  <a:pt x="51779" y="21600"/>
                </a:lnTo>
                <a:lnTo>
                  <a:pt x="0" y="21600"/>
                </a:lnTo>
                <a:close/>
              </a:path>
              <a:path fill="lightenLess" w="51779" h="21600">
                <a:moveTo>
                  <a:pt x="0" y="0"/>
                </a:moveTo>
                <a:lnTo>
                  <a:pt x="51779" y="0"/>
                </a:lnTo>
                <a:lnTo>
                  <a:pt x="50379" y="1400"/>
                </a:lnTo>
                <a:lnTo>
                  <a:pt x="1400" y="1400"/>
                </a:lnTo>
                <a:close/>
              </a:path>
              <a:path fill="darken" w="51779" h="21600">
                <a:moveTo>
                  <a:pt x="51779" y="0"/>
                </a:moveTo>
                <a:lnTo>
                  <a:pt x="51779" y="21600"/>
                </a:lnTo>
                <a:lnTo>
                  <a:pt x="50379" y="20200"/>
                </a:lnTo>
                <a:lnTo>
                  <a:pt x="50379" y="1400"/>
                </a:lnTo>
                <a:close/>
              </a:path>
              <a:path fill="darkenLess" w="51779" h="21600">
                <a:moveTo>
                  <a:pt x="5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79" y="20200"/>
                </a:lnTo>
                <a:close/>
              </a:path>
              <a:path fill="lighten" w="5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79" h="21600">
                <a:moveTo>
                  <a:pt x="18883" y="10800"/>
                </a:moveTo>
                <a:lnTo>
                  <a:pt x="32896" y="3794"/>
                </a:lnTo>
                <a:lnTo>
                  <a:pt x="3289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Хим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676520"/>
            <a:ext cx="79250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ула окси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акция нейтрал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фамилии какого ученого девять букв, из них четыре «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зовите женщину – химика, лауреата Нобелевской прем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то из ученых разработал теорию электролитической диссоци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Щелочным металлом являе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щества ускоряющие химическую реакцию называю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ксид углерода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 это ядовитый газ, которы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ым способом получения алюминия являе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идраргерум э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7696080" y="63244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8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8" y="20200"/>
                </a:lnTo>
                <a:lnTo>
                  <a:pt x="63318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8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18" h="21600">
                <a:moveTo>
                  <a:pt x="25353" y="10800"/>
                </a:moveTo>
                <a:lnTo>
                  <a:pt x="39366" y="3794"/>
                </a:lnTo>
                <a:lnTo>
                  <a:pt x="3936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28800" y="2286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Информа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143000"/>
            <a:ext cx="86868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ая система счисления используется в ЭВМ: бинарная или двоична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какой плате компьютера размещен процессор: на системной или материнской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сокое разрешение — это подпись начальства на вашем заявлении или способность монитора четко отображать текст и графи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то это за романтическое место в компьютере, где может причалить усталое и потрепанное бурями периферийное устройство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ой компьютерный термин английского происхождения при дословном переводе означает междумордие”?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икламен — это программист мужского пола, программы которого всегда изобилуют циклами, или же альпийская фиалк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 Какие банки создают только программисты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. Какой инфекцией может заразиться компьютер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9. Кого считают первой программистк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0. Как зовут создателя компании “Майкрософт” Гейтс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7620120" y="624852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6" h="21600">
                <a:moveTo>
                  <a:pt x="23221" y="10800"/>
                </a:moveTo>
                <a:lnTo>
                  <a:pt x="37234" y="3794"/>
                </a:lnTo>
                <a:lnTo>
                  <a:pt x="3723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990720" y="380880"/>
            <a:ext cx="716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Лидер XXI 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2133720" y="2133720"/>
            <a:ext cx="647676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3" action="ppaction://hlinksldjump"/>
          </p:cNvPr>
          <p:cNvSpPr/>
          <p:nvPr/>
        </p:nvSpPr>
        <p:spPr>
          <a:xfrm>
            <a:off x="2133720" y="3886200"/>
            <a:ext cx="647676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2133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3048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8862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48006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V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220968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22096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ай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3048120"/>
            <a:ext cx="6476760" cy="609480"/>
            <a:chOff x="2133720" y="3048120"/>
            <a:chExt cx="6476760" cy="609480"/>
          </a:xfrm>
        </p:grpSpPr>
        <p:sp>
          <p:nvSpPr>
            <p:cNvPr id="97" name="">
              <a:hlinkClick r:id="rId4" action="ppaction://hlinksldjump"/>
            </p:cNvPr>
            <p:cNvSpPr/>
            <p:nvPr/>
          </p:nvSpPr>
          <p:spPr>
            <a:xfrm>
              <a:off x="2133720" y="3048120"/>
              <a:ext cx="6476760" cy="6094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38280" y="3048120"/>
              <a:ext cx="609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Предметный калейдоско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362320" y="38862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Темная лоша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133720" y="4800600"/>
            <a:ext cx="6476760" cy="1068840"/>
            <a:chOff x="2133720" y="4800600"/>
            <a:chExt cx="6476760" cy="1068840"/>
          </a:xfrm>
        </p:grpSpPr>
        <p:sp>
          <p:nvSpPr>
            <p:cNvPr id="101" name=""/>
            <p:cNvSpPr/>
            <p:nvPr/>
          </p:nvSpPr>
          <p:spPr>
            <a:xfrm>
              <a:off x="2133720" y="4800600"/>
              <a:ext cx="6476760" cy="6094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>
              <a:hlinkClick r:id="rId5" action="ppaction://hlinksldjump"/>
            </p:cNvPr>
            <p:cNvSpPr/>
            <p:nvPr/>
          </p:nvSpPr>
          <p:spPr>
            <a:xfrm>
              <a:off x="2362320" y="4800600"/>
              <a:ext cx="5943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Интеллектуальный сприн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676520" y="228600"/>
            <a:ext cx="5257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Физ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1752480"/>
            <a:ext cx="815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914400"/>
            <a:ext cx="838188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-то раз спросили розу, отчего, чаруя око, ты колючими шипами нас царапаешь жесток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чему воздушный шар днем поднять труднее? Ночью этот стратостат ввысь летит скор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можно объяснить пословицу: «Как с гуся во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красная дама нюхала розы, но расчихалась – закапали слезы! Из-за чего бывают вот такие конфуз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стоящий на полу человек может быстро удвоить давление на пол, не нагружая себя никакими дополнительными груза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да по воде плы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оть я и не снег, но таю, не птица, а лет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ве сестры качались – правды добивались. А когда добились, то остановил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е мамочка – механика, сестра родная – динамики. Она и физика, и математика. Зовется эта область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его в сундук не спрячеш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7391520" y="6248520"/>
            <a:ext cx="1218960" cy="380880"/>
          </a:xfrm>
          <a:custGeom>
            <a:avLst/>
            <a:gdLst>
              <a:gd name="textAreaLeft" fmla="*/ 24480 w 1218960"/>
              <a:gd name="textAreaRight" fmla="*/ 1194480 w 12189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083" h="21600">
                <a:moveTo>
                  <a:pt x="0" y="0"/>
                </a:moveTo>
                <a:lnTo>
                  <a:pt x="69083" y="0"/>
                </a:lnTo>
                <a:lnTo>
                  <a:pt x="69083" y="21600"/>
                </a:lnTo>
                <a:lnTo>
                  <a:pt x="0" y="21600"/>
                </a:lnTo>
                <a:close/>
              </a:path>
              <a:path fill="lightenLess" w="69083" h="21600">
                <a:moveTo>
                  <a:pt x="0" y="0"/>
                </a:moveTo>
                <a:lnTo>
                  <a:pt x="69083" y="0"/>
                </a:lnTo>
                <a:lnTo>
                  <a:pt x="67683" y="1400"/>
                </a:lnTo>
                <a:lnTo>
                  <a:pt x="1400" y="1400"/>
                </a:lnTo>
                <a:close/>
              </a:path>
              <a:path fill="darken" w="69083" h="21600">
                <a:moveTo>
                  <a:pt x="69083" y="0"/>
                </a:moveTo>
                <a:lnTo>
                  <a:pt x="69083" y="21600"/>
                </a:lnTo>
                <a:lnTo>
                  <a:pt x="67683" y="20200"/>
                </a:lnTo>
                <a:lnTo>
                  <a:pt x="67683" y="1400"/>
                </a:lnTo>
                <a:close/>
              </a:path>
              <a:path fill="darkenLess" w="69083" h="21600">
                <a:moveTo>
                  <a:pt x="69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83" y="20200"/>
                </a:lnTo>
                <a:close/>
              </a:path>
              <a:path fill="lighten" w="69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083" h="21600">
                <a:moveTo>
                  <a:pt x="27535" y="10800"/>
                </a:moveTo>
                <a:lnTo>
                  <a:pt x="41548" y="3794"/>
                </a:lnTo>
                <a:lnTo>
                  <a:pt x="4154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0880" y="228600"/>
            <a:ext cx="8229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ычислительная техника и системы счисл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066680"/>
            <a:ext cx="876312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 называлась счетная доска у древних римлян и грек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й вычислительной техникой пользовались счетоводы в середине 20 ве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й прибор использовали школьники для упрощения вычислений до изобретения калькулятор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то изобрел первую счетную машин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 называлась первая а мире ЭВ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е число служит основанием основной системы счисления употребляемой во всем ми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им словом обозначался миллион в Древней Рус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непозиционных системах счисления положение знака в записи числа не играет роли, и хотя, эти системы считаются неудобными, мы до сих пор используем в записи эти циф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менно эта система счисления оказалась самой удобной для выполнения арифметических операций на ЭВ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древнем Вавилоне использовали свою систему счисления. Ее следы сохранились до наших дней, и мы ежедневно используем ее. Гд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807732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10800"/>
                </a:moveTo>
                <a:lnTo>
                  <a:pt x="32920" y="3794"/>
                </a:lnTo>
                <a:lnTo>
                  <a:pt x="32920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04920" y="380880"/>
            <a:ext cx="8305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Темная лошад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8288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2666880"/>
            <a:ext cx="3809880" cy="60984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36576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45720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9051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В лабиринтах мы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27432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Знаете ли В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3581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Жизнь замечательных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46483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Планета «Железя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3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5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6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7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8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9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0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864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1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008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2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008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3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5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6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152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7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43800" y="62485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04" h="21600">
                <a:moveTo>
                  <a:pt x="27545" y="10800"/>
                </a:moveTo>
                <a:lnTo>
                  <a:pt x="41558" y="3794"/>
                </a:lnTo>
                <a:lnTo>
                  <a:pt x="4155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09480" y="243828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ервый слог в названии реки в Сибири и первая буква названия полупроводникового прибора составляют название твердого состояния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09480" y="2514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ие известные вам два газа не ядовиты, однако от них гибнут живот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2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09480" y="25146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ая кислота всегда находится в желудке здорового человека, а при недостатке этой кислоты ее употребляют как лекарст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228600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едавно во Флориде построен дом из алюминия. Алюминий был получен при переработке вторичного сырья. Всего на сооружение дома потребовалось более полмиллиарда единиц этого вторичного сырья. Что это за сырь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8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2133720"/>
            <a:ext cx="79246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 Англии давно была написана программа, предназначенная для использования в офисах крупных компаний. По принципу действия она напоминает антивирусы, но используется для другой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ля какой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2438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осле дефрагментации жесткого магнитного диска объем свободного места на нем станет больше, меньше или не измени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43828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программы называют троянскими конями, или троян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во происхождение этого названи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828800"/>
            <a:ext cx="76201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Где сила тяжести одного и того же тела больше: на полюсе или на эквато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На полю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На экватор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езде одина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23623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е отношение к компьютерам имеют термины: бриллиант, диамант, перл, нонпарель, миньон, петит, боргес, корпус, цицеро, миттель, терци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2362320"/>
            <a:ext cx="79250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а могиле этого великого математика был установлен памятник с изображением шара и описанного около него цилиндра. Спустя почти 200 лет по этому чертежу нашли его могил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то этот математик? ( можно назвать любые три  букв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23623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ое наибольшее число воскресений может быть в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23880" y="2971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Что больше: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0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ил 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251460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жасный вирус пожирает память компьютера. За первую секунду он управился с половиной памяти, за вторую с одной третьей оставшейся части, а за третью секунду – с четвертью того, что еще сохранилось, за четвертую – с одной пятой остатка. И тут его настиг Антивирус. Какая часть памяти уцеле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26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510552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н изобрел телескоп; для изучения одного явления взбирался на Пизанскую башню; ввел понятие «инерция», «ИСО»; фамилия и имя очень похож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40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5181480"/>
            <a:ext cx="870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тот русский ученый создал на основе механики Ньютона теорию космических летательных аппар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54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5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480060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изик и математик, открывший и исследовавший ряд важных свойств жидкости и газа, доказавший существование атмосферного давления. Он открыл закон о том, что давление производимое на жидкость или газ, передается без изменений в каждую точку жидкости или га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69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0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733920" y="373392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4648320"/>
            <a:ext cx="85345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детстве он ходил с отцом в дальние плавания – к Новой Земле и Шпицбергену. Учился в Германии, был рекрутом гвардии короля Фридриха Вильгельм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но сумел сбежать и вернулся на родину. В 1748 году он сочинил поздравительную оду императрице  Елизавете. В 1749 году создал химическую лабораторию. Изготовлял мозаичные картины из цветного стекла, которое сам производил. Его считают основоположником атомно-молекуляр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ния, одним из авторов закона сохранения массы и энер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67480" y="61722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Интеллектуальный сприн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3124080" y="2286000"/>
            <a:ext cx="309564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828800"/>
            <a:ext cx="76201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2. Что на латыни обозначает слово «вектор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ползущ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стремящий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езу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Винчестер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устройство внешней памя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город в Великобрита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азвание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 Валентность алюми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981080"/>
            <a:ext cx="7696440" cy="40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.  Когда мяч находится в состоянии невесомости: при вертикальном подъеме или при паде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и паде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и вертикальном подъ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обоих случа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676520"/>
            <a:ext cx="83822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. Этот греческий купец, измерив тень от пирамиды и тень от шеста и , применив свои теоремы о подобии, вычислил высоту пирамиды. Его им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Евкли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рхиме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Фалес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75248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7. Вирус – эт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шибка в программ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озбудитель инфекционного заболе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ограмма, обладающая способностью к самовоспроизвед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1-26T08:55:42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